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067-E9DF-4380-8F22-39EE47EF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FCA-DB42-4FA1-9DED-560FE94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EBA-8D00-45E5-9424-F44AE40E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D6F-D8B2-445C-A94A-228DE402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360-33EB-40EE-8BCA-A3DAF19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786-835A-4F7F-8E50-78E316D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EE2-405F-4163-89C6-4DFAE1C1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2F8-9F07-4802-B2A2-CBB677E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30F-4073-44ED-8D86-D4866D9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EB5-85D3-4256-A613-62B78A09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726-E178-44B5-8C80-7CE446A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AF5-1B39-4DDC-84FA-BE69A4D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CA07-E41E-49C1-957A-BEFB265B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10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 الصليب بركع عندك بتأمل في جراحات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بجيلك بجروحي وأعرف أنه شفائي في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تى لو كان الرأس سقيم حتى لو كان الكل مريض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بجيلك بحروحي وأعرف انه شفائي فيك</a:t>
            </a:r>
            <a:r>
              <a:rPr b="0" lang="ar-SA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0903" descr=""/>
          <p:cNvPicPr/>
          <p:nvPr/>
        </p:nvPicPr>
        <p:blipFill>
          <a:blip r:embed="rId1"/>
          <a:stretch/>
        </p:blipFill>
        <p:spPr>
          <a:xfrm>
            <a:off x="37339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143000"/>
            <a:ext cx="34290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جلدتك شُفيت بجلدتك شُفي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esus%20on%20crossss" descr=""/>
          <p:cNvPicPr/>
          <p:nvPr/>
        </p:nvPicPr>
        <p:blipFill>
          <a:blip r:embed="rId1"/>
          <a:stretch/>
        </p:blipFill>
        <p:spPr>
          <a:xfrm>
            <a:off x="457200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11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 إساءة لم تُغتفر  وجرحي في القلب انحف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تى لو كان بقالو سنين إيماني فيك إنت يا مع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رفع المجد لاسمك في صليبك قوة شف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وة تحرير قوة تبرير قوة سلام وفرح وعز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39:24Z</dcterms:created>
  <dc:creator>SUZANNE.MD</dc:creator>
  <dc:description/>
  <dc:language>en-US</dc:language>
  <cp:lastModifiedBy>SUZANNE.MD</cp:lastModifiedBy>
  <dcterms:modified xsi:type="dcterms:W3CDTF">2003-03-10T10:05:04Z</dcterms:modified>
  <cp:revision>1</cp:revision>
  <dc:subject/>
  <dc:title>PowerPoint Presentation</dc:title>
</cp:coreProperties>
</file>